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2F1C-3ABF-4D0F-9AAD-F9D079F6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A15D-A584-4E79-9974-E08F744C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BD7E-6351-41AC-89DD-2C8F964E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9747-C9F3-4C3C-BA9D-DA353ED6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AE5D-E1FE-4D7B-842E-61138E27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59CA-291D-4ED6-8BF1-2A7A8E86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C9E0-899B-46CD-BEC1-B61E40FB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CA63-5A38-40CF-8162-6ED96679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1E08-66F3-4F23-8598-6A4A3C6C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1998-7CF8-4E8D-A718-B195B2BD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E62F-4E89-41E2-971C-0CFA5E17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5EF0-40BF-4F8B-87A3-1F3C555F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C116-7220-4A01-9DE3-10F40A77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7C38-77A6-4899-AFB7-34D18232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4634-E8F2-467E-9406-6B5D5D7F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971F-5FB1-4AD5-BF15-2C6002A7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67A9-75EE-47AE-83EF-73BD5A91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407C-6549-4BE7-A930-1CA20703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945C-A590-4F88-A3F3-4063B4E8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C9E0-3018-4E63-8913-4896EE17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86F5-A218-4F9F-80A0-549D7FE6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78D7-9F1C-4518-B7D6-A2D3FCEE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BFB4-87E4-4D30-9D4C-B0A90960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E0EB-112F-4796-89DF-F0C0B5DB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8452-457F-4E5C-A29C-E245A4DF6528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251A-C42F-40BB-B66E-357F81D7162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llog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rmal Reason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al 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enying the consequent—saying the “then” part did not occu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f you go to school, you will learn someth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You did not learn someth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You did not go to schoo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al 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wo (2) fallacies involv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enying the anteced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ffirming the conseq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Denying the anteced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f you go to school, you will learn someth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You do not go to schoo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You will not learn anyth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(Not necessarily!  One may learn out of school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al 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ffirming the conseq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f you go to school, you will learn someth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You learn someth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You go to schoo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(Again, one may learn elsewhere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junctive 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Either-or”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yllogis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ither you like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Star Wars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Star Trek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You like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Star Wa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You don’t like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Star Trek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(Formally valid, but can’t we like both?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rmal correctness insufficient to gain adheren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ecise language essential to analyzing and appraising argumen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ertainty cannot always be establish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asoning does not always follow three-liner for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rgumentation seeks to link “known” to the unknown—formal reasoning cannot do th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s Consul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Zarefsky, David. 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Argumentation: The Study of Effective Reasoning.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Edition. 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he Great Courses.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hantilly, VA: The Teaching Company, 2005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irie, Madsen. 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How to Win Every Argument: The Use and Abuse of Logic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.  London: Continuum, 2006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l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ncerned with “form” or structur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eed have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nothing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to do with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content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r fac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ay use symbols (e.g.,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l-GR" sz="3200" spc="-1" strike="noStrike">
                <a:solidFill>
                  <a:srgbClr val="292929"/>
                </a:solidFill>
                <a:latin typeface="Arial"/>
                <a:ea typeface="Arial"/>
              </a:rPr>
              <a:t>ζ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Arial"/>
              </a:rPr>
              <a:t>, Þ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llowing form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s mentioned above, formal logic doesn’t have to have anything to do with the real worl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Validity” is about form, not fac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.g.,</a:t>
            </a:r>
            <a:br>
              <a:rPr sz="2800"/>
            </a:b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ll heavenly bodies are made of mil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sun is a heavenly bod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sun is made of mil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ductive and Indu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eductiv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clusions are certai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tains no new inform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ductiv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clusions are proba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tains new inform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Formal reasoning is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deductiv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Syn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- together +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logos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 reason, discours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tains three (3) par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999933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ajor premi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999933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inor premi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999933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ree (3) syllogistic types here considered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ategoric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ondition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isjunctiv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cal 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ll,”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“None,”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“Some”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syllogis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ound example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ll freshmen are lazy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major premis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ohn is a freshman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minor premis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ohn is lazy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onclusion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aulty exampl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ome freshmen are laz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ohn is a freshma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ohn is lazy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maybe, maybe not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cal 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etter example of “some”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ll girls like Jane Auste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ome students are girl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ome students like Jane Auste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(An unfounded generalization?  You betcha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But a formally correct one.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al 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If-then”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yllogis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teced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sequent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.g.,</a:t>
            </a:r>
            <a:br>
              <a:rPr sz="3200"/>
            </a:b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f you go to school, you will learn someth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You go to schoo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You will learn someth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al 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firming the antecedent—saying the “if” condition did in fact occu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f you go to school, you will learn someth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You go to schoo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You will learn someth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9:24:40Z</dcterms:created>
  <dc:creator>csclab</dc:creator>
  <dc:description/>
  <dc:language>en-US</dc:language>
  <cp:lastModifiedBy>csclab</cp:lastModifiedBy>
  <dcterms:modified xsi:type="dcterms:W3CDTF">2009-09-04T12:38:47Z</dcterms:modified>
  <cp:revision>15</cp:revision>
  <dc:subject/>
  <dc:title>Syllogisms</dc:title>
</cp:coreProperties>
</file>